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45F-2A1D-4BAB-AC78-15C364B1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45A-B331-4A61-8B99-32620E4E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837-AA99-4BFB-9E72-CF56A7AB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858-C400-4553-A0A2-206BEE95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E3A-C2D0-49FF-839A-1F70D517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26C-813D-4A42-B6F0-70EEC96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0A4-CF63-4FCB-AF48-EF33EC64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64C-4B46-4BFF-ABF1-B745B645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E89-DBA0-43F8-8C80-978D0D39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5A7-E4E2-4642-9647-C851063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AF4-DDC9-4E21-AB12-CB6133B0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8F2-C51F-4632-819B-3E0266B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A03A-7623-4ADB-A1A4-7573C728B1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how.com/video_2389619_use-mastering-art-puppet-theater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95280" y="213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68360" y="306864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entury Gothic"/>
              </a:rPr>
              <a:t>To tell or explain how things work or how they came to 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2492280"/>
            <a:ext cx="37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how.com/video_2389619_use-mastering-art-puppet-theat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4000" y="364500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ow to Use a Moving Mouth Pupp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uppet-crafts-and-activities-for-kids-6"/>
          <p:cNvPicPr/>
          <p:nvPr/>
        </p:nvPicPr>
        <p:blipFill>
          <a:blip r:embed="rId2"/>
          <a:stretch/>
        </p:blipFill>
        <p:spPr>
          <a:xfrm>
            <a:off x="6012000" y="2924280"/>
            <a:ext cx="24415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342900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entury Gothic"/>
              </a:rPr>
              <a:t>What features might I find in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6948360" y="189000"/>
            <a:ext cx="144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84720" y="907920"/>
            <a:ext cx="266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Know where to fi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84720" y="3284640"/>
            <a:ext cx="266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Understand features of explanation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84720" y="1557360"/>
            <a:ext cx="251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 pag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084720" y="4005360"/>
            <a:ext cx="30592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, Index, Glo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headings, diagrams, flowcharts, pho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tense, technical vocabulary, time words, conn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1052640"/>
            <a:ext cx="4751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.O.: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books we read and use them to fin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essment Foc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F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range of strategies, including accurate decoding of text, to read for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F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, describe, select or retrieve information, events or ideas from texts and use quotation and reference to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F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and comment on the structure and organisation of texts, including grammatical and presentational features at t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5280" y="213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 rot="240600">
            <a:off x="1834560" y="3284640"/>
            <a:ext cx="5688000" cy="187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Write what is going to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1844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 rot="21168000">
            <a:off x="2484720" y="2420640"/>
            <a:ext cx="5977080" cy="382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Explanation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Use time words and connectives to describe or explain a process. You can include diagrams or flowcharts, which you will need to comment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 rot="3074400">
            <a:off x="4716000" y="1773360"/>
            <a:ext cx="936720" cy="50472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95280" y="1844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21252600">
            <a:off x="802800" y="2709000"/>
            <a:ext cx="4703760" cy="3395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Concluding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You may want to include interesting comments about what you hav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rot="9600600">
            <a:off x="5724000" y="3715920"/>
            <a:ext cx="936720" cy="50472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 rot="21252600">
            <a:off x="324360" y="2349360"/>
            <a:ext cx="2209680" cy="2692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entury Gothic"/>
              </a:rPr>
              <a:t>Concluding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You may want to include interesting comments about what you have expl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 rot="3633000">
            <a:off x="6048360" y="2528640"/>
            <a:ext cx="1368360" cy="720720"/>
          </a:xfrm>
          <a:prstGeom prst="rightArrow">
            <a:avLst>
              <a:gd name="adj1" fmla="val 50000"/>
              <a:gd name="adj2" fmla="val 474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 rot="21168000">
            <a:off x="4290840" y="3788640"/>
            <a:ext cx="4292640" cy="2360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entury Gothic"/>
              </a:rPr>
              <a:t>Explanatio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Use time words and connectives to describe or explain a process. You can include diagrams or flowcharts, which you will need to comment on.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 rot="240600">
            <a:off x="2770920" y="980640"/>
            <a:ext cx="3422880" cy="116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entury Gothic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Write what is going to be expl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rot="12357000">
            <a:off x="2771280" y="4941720"/>
            <a:ext cx="1368720" cy="72072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9"/>
          <p:cNvSpPr/>
          <p:nvPr/>
        </p:nvSpPr>
        <p:spPr>
          <a:xfrm>
            <a:off x="6948360" y="189000"/>
            <a:ext cx="144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084720" y="90792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Time Ord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84720" y="270828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Conn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6084720" y="443700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imple Present T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6084720" y="566100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Technic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227640" y="1341360"/>
            <a:ext cx="23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300720" y="3141720"/>
            <a:ext cx="23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15636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ove it by pulling on the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084720" y="602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ionette puppe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84360" y="20606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.O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an explanation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1:44:40Z</dcterms:created>
  <dc:creator>Administrator</dc:creator>
  <dc:description/>
  <dc:language>en-US</dc:language>
  <cp:lastModifiedBy>christine Charuckyj</cp:lastModifiedBy>
  <dcterms:modified xsi:type="dcterms:W3CDTF">2014-08-17T12:04:35Z</dcterms:modified>
  <cp:revision>12</cp:revision>
  <dc:subject/>
  <dc:title>Slide 1</dc:title>
</cp:coreProperties>
</file>